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EBD5A-E5D4-4F1D-9D2F-B363B499F3C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A0DE2-59DA-4856-83DE-D451A493108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09BD-0674-4921-93D6-B027EC87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83BB-A228-4BF0-8314-76D36BCD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8540-ABB7-4F01-9048-40009FA6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C036-4550-45D2-A5AA-D91A7F1FA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4C8A-A24C-43C7-9B7E-26741476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AB73-CFD2-4E47-A785-B9A2F075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638C-9AB2-4953-8900-D6B5A428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DF68-0B48-4791-A418-1494499F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FBAA-1D05-4176-B75D-14EB9E3B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5750-2929-4FB7-A5CF-8BCD6F2D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8E36-F183-42E2-84A5-CF856DC9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5B5C-B881-4694-9D40-B54BD84B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A27AA-1063-4922-994D-5D200D87F840}" type="slidenum">
              <a:rPr b="0" lang="de-DE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5108400" y="263520"/>
            <a:ext cx="9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1547640" y="944640"/>
            <a:ext cx="716472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Lucida Handwriting"/>
              </a:rPr>
              <a:t>Groß und unverzichtbar – vom Nutzen der Bäum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34800" y="3060720"/>
            <a:ext cx="9385560" cy="3290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vantGarde Md BT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vantGarde Md BT"/>
              </a:rPr>
              <a:t>Aufgabe 1: Wie hoch ist der Sauerstoffbedarf eines Dorfes mit 500 Einwohnern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vantGarde Md BT"/>
              </a:rPr>
              <a:t>Aufgabe 2: Wie viele Stieleichen (mit ca. 130.000 Blättern) werden für eine ausreichende Sauerstoffproduktion benötig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980240" y="7440480"/>
            <a:ext cx="22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Lucida Handwriting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431640" y="27162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Lucida Handwriting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28480" y="1852560"/>
            <a:ext cx="30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34800" y="1836720"/>
            <a:ext cx="9385560" cy="718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vantGarde Md BT"/>
              </a:rPr>
              <a:t>      </a:t>
            </a:r>
            <a:r>
              <a:rPr b="0" lang="de-DE" sz="1400" spc="-1" strike="noStrike">
                <a:solidFill>
                  <a:srgbClr val="000000"/>
                </a:solidFill>
                <a:latin typeface="AvantGarde Md BT"/>
              </a:rPr>
              <a:t>Sie haben sich nun wichtige Informationen über die Bedeutung der Bäume erarbeitet! Mit Hilfe dieser Fakten können Sie sich dem Verhältnis Baum/Mensch auch mathematisch annähern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vantGarde Md BT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334800" y="1836720"/>
            <a:ext cx="9385560" cy="718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vantGarde Md BT"/>
              </a:rPr>
              <a:t>      </a:t>
            </a:r>
            <a:r>
              <a:rPr b="0" lang="de-DE" sz="1400" spc="-1" strike="noStrike">
                <a:solidFill>
                  <a:srgbClr val="000000"/>
                </a:solidFill>
                <a:latin typeface="AvantGarde Md BT"/>
              </a:rPr>
              <a:t>Sie haben sich nun wichtige Informationen über die Bedeutung der Bäume erarbeitet! Mit Hilfe dieser Fakten können Sie sich dem Verhältnis Baum/Mensch auch mathematisch annähern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vantGarde Md BT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449280" y="1492200"/>
            <a:ext cx="31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Lucida Handwriting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 rot="1080000">
            <a:off x="7174800" y="649080"/>
            <a:ext cx="2843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ZUSATZAUFGAB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208080" y="6620040"/>
            <a:ext cx="6470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Jörg Restemeyer, Andrea Kaminski, Gaby Ditz, Gaby Pfeffer</a:t>
            </a:r>
            <a:r>
              <a:rPr b="0" lang="de-DE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de-DE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de-DE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de-DE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de-DE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Bild 1" descr="Creative Commons Lizenzvertrag"/>
          <p:cNvPicPr/>
          <p:nvPr/>
        </p:nvPicPr>
        <p:blipFill>
          <a:blip r:embed="rId2"/>
          <a:stretch/>
        </p:blipFill>
        <p:spPr>
          <a:xfrm>
            <a:off x="8881920" y="6659640"/>
            <a:ext cx="838440" cy="29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9:09:03Z</dcterms:created>
  <dc:creator>Gaby</dc:creator>
  <dc:description/>
  <dc:language>en-US</dc:language>
  <cp:lastModifiedBy>Gaby</cp:lastModifiedBy>
  <dcterms:modified xsi:type="dcterms:W3CDTF">2013-06-15T11:59:09Z</dcterms:modified>
  <cp:revision>3</cp:revision>
  <dc:subject/>
  <dc:title>PowerPoint-Präsentation</dc:title>
</cp:coreProperties>
</file>