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85A-C0DC-4759-9EC9-DBEBF9BA7E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223-AADD-45CA-81C4-0376648DF36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F09A-DB46-418D-A8FA-24F1C760B97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B8BF-8510-4050-B603-82482118B9C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B6C7-1DCE-4DBA-A29F-F32D5702FCD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320-6015-4CC8-A903-20F8CD5F3E0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7D21-4F27-4592-A92F-2C75721EBE2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7C3-2F97-40D3-A47D-CB9589C2031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E22-C629-49C7-B9A7-323FE212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26A-1D8E-44D5-8AEE-FEF9F3F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BF8-33D6-4EB3-9449-AC3D05A8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2EF-6890-45D8-9DEA-991254FE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BCB2-D5C2-4382-966F-0EFEAFD8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2196-86CE-4230-8CA4-B691054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5A0F-1106-4C9F-828C-48EF7765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9C22-FA6E-497C-AF77-8B902118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643A-973F-4F6C-9191-77837149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A6BD-7896-4E5A-B377-3734C37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C078-DC30-4672-9B46-C3AC029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029-2EF4-4DDD-A9BB-74F9261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CD2B-5254-45D6-B0FE-8ED63D9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7880-012E-41A6-B068-2061212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2196-688F-4B46-B292-00B6E6E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7B05-077F-41D8-8873-7C8900E2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AA9F-3E05-4B12-952C-401B95C0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8A2-2D29-49EF-8157-814D7C17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BF1-97E4-4437-BB29-75BD390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30D-213D-4E49-A61E-DA24A0D1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6BD-6FEF-4215-8959-3074839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0D4-4417-483C-9C54-1BF740D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6A2-AE7B-45B3-B994-2FF6442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97E-64A5-4A27-B426-537378E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4B68-D293-4FF3-B866-4D803BC1F94A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2803-75D4-4660-8000-AD8752529A3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B15-0E6B-4BAF-833A-6012FCC27AB0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748E-896C-4A99-9F5C-CCDA7B774C9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F6DE-959D-4EDE-BFC4-9EE03E915811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3C29-8D32-45CA-AF41-DE96A2E12B5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cc"/>
                </a:solidFill>
                <a:latin typeface="Arial Narrow"/>
              </a:rPr>
              <a:t>Der Baum als Lebensraum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71640" y="2924280"/>
            <a:ext cx="638496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rnprobjekte in stark heterogenen Gru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petenzorientierter Unterric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chübergreif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ologie, Deutsch, Mathemati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nnendifferenz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217-36CC-4F26-BE9B-05E347BBF6C2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BE5-282E-4067-99BA-CD933549B45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um geht es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00000" y="1484280"/>
            <a:ext cx="60958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gangspunkt: Anklagesch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 Baum wurde gefäl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N werden an verschiedene Aspekte des Themas „Baum“ und „Baumschutz“  herangefüh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genständiges Sammeln von Informati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xterfassung und –erstel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810E-1C72-4226-A29E-DE332D8FB176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0D7A-BD89-4850-B228-40735922645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levanz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frontation mit  realistischen Probl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stellungen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e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lö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8B0F-2C0E-4F05-8D0D-362D9212F488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3E9-6F93-4E70-B90D-A6A20C90DFC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028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eilaspekte in der Biologi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8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aumschutzsatz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aumbestimm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sbestimmung von Bä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der Bä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xkursion in den Wa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F519-8A9C-42FC-ACFA-9727ED52AA91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B44-1A48-4D1F-B67C-F40F14967EE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eilaspekte Ma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örsterdrei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hen- und Umfangbestimm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hsensym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berfläche und 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kursion in den Wald mit praktischer Anwendung des Erler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EFCD-9806-426A-B556-50551E731F1E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07E-4EDF-46F9-AEF1-C6E89A18730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914400"/>
            <a:ext cx="6095880" cy="125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eilaspekte Deutsch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2286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severständ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tschatzerweite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rg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xtverständnis und Verfassung von Tex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fferenzierung von Sprachebe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ormbri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5542-BDA0-4F52-868C-EEFC93A2AA1B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oliennummernplatzhalt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A330-8283-444E-B525-51C44E4AF42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gestrebte Kompetenz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00000" y="1341360"/>
            <a:ext cx="6095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agestellungen erken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cherch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formationen identifizieren und ums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akten widergeben und erläu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schreiben, präsentieren und begrü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exte lesen und erst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chverhalte ordnen und struktur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ssen vern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beits- und Denkweisen reflekt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umentieren und Position bezie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wertungen an Kriterien orient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umsplatzhalt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2FB5-8952-4A66-A653-011ECA5B092D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oliennummernplatzhalt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5071-C997-43F6-B71F-8FB4EDE5091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92000" y="475920"/>
            <a:ext cx="7451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nzept und Durchführu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örg Restemeyer ARS Kö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rea Kaminski Abendrealschule Bo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aby Ditz und Gaby Pfeffer Tages- und Abendschule Kö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Kontakt: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andrea.kaminski@gmx.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www.abendrealschule-bon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gabriele.pfeffer@tas-koel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gabriele.ditz@tas-koel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www.tas-koeln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ild 1" descr="Creative Commons Lizenzvertrag"/>
          <p:cNvPicPr/>
          <p:nvPr/>
        </p:nvPicPr>
        <p:blipFill>
          <a:blip r:embed="rId1"/>
          <a:stretch/>
        </p:blipFill>
        <p:spPr>
          <a:xfrm>
            <a:off x="7667640" y="5661000"/>
            <a:ext cx="838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by</dc:creator>
  <dc:description/>
  <dc:language>en-US</dc:language>
  <cp:lastModifiedBy>Gaby</cp:lastModifiedBy>
  <dcterms:modified xsi:type="dcterms:W3CDTF">2013-06-15T12:35:33Z</dcterms:modified>
  <cp:revision>10</cp:revision>
  <dc:subject/>
  <dc:title>PowerPoint-Präsentation</dc:title>
</cp:coreProperties>
</file>